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17.gif" ContentType="image/gif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1292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01320" y="704520"/>
            <a:ext cx="4684680" cy="351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1292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F918-F4AA-45FA-BB11-4F085B25B6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a look at the Teacher C popsicle stick activity, did you need the other members of your group to complete the tas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have to do something by yourself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everyone have the same amount of work to do?  Yes, all had to put 3 popsicle sticks dow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25% were working at once instead of Teacher A calling on studen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4DA-7F7D-4D81-B9CF-195305F0951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DF2B-179F-4408-84E3-1873E288E7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 - Hogs and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647-B2A3-43AC-90C9-B009FA6C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B75-C082-4D09-BED3-A19546CC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084-C59D-4085-8F06-811F6A01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A04-CCEA-45F6-8F6D-A11974B7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4417-5595-46C4-A9BC-2B4D42D5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044-FFBE-432B-92DF-9A8560E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AAF-3A80-47F9-B964-19A5F26E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D986-B01E-49CD-B1D4-F56C7973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955-FCFB-4B13-8D38-D72E5CC6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900-B592-4CAF-950A-8647D3A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ADF2-E790-438D-954B-060CAB5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9F3-317B-48C8-9558-44E3E37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EE40-DBE1-47FD-A487-2817A16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9EE-79F0-428E-B873-3963994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6A2E-664C-421D-BCC5-B020A0AC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57EA-7FAA-4275-B3F4-3C88BB53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5F2C-3BDF-4AFD-9CF0-AA457ECF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486-BCDB-47BA-97C6-CF06255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DBA-758D-43AD-A827-A3645E73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B7C-983C-4F58-9400-686A8747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B6C-F350-4124-8D4F-2F2B7BD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487-4761-496E-BD71-05D101D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D30-038A-4549-B1FE-D63878E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9E3-3EA9-452E-A7E2-7AB78AC9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125-6756-4068-A861-1AAA1E63DCB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AAFE-A173-48A2-B16C-BE7487722B4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Qt_tzxZuBFO8LM&amp;tbnid=00KEjR5OMX55_M:&amp;ved=0CAUQjRw&amp;url=http%3A%2F%2Fblogs.globeuniversity.edu%2F2012%2F07%2F10%2Funlocking-the-key-to-teamwork%2F&amp;ei=iMhQUsC8J7bK4AOs5IHQCQ&amp;bvm=bv.53537100,d.dmg&amp;psig=AFQjCNGlr-vw0BdMQoXf_YgV_mbMzf_7JA&amp;ust=138111228672145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SSdeE41GSJvT6M&amp;tbnid=hDSzF5NSYn_HDM:&amp;ved=0CAUQjRw&amp;url=http%3A%2F%2Fbestclipartblog.com%2F17-ghost-clipart.html&amp;ei=28lQUoPpDPKs4AOO-IHQCA&amp;bvm=bv.53537100,d.dmg&amp;psig=AFQjCNELuUgrcArqQmJJjbchQuvBO_LNKg&amp;ust=138111260484184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906768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Cooperative Learning ~ The Adventure Continues </a:t>
            </a:r>
            <a:endParaRPr b="1" lang="en-US" sz="5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Ideas to Have Even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More Students Engaged!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llison Smerka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94360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hristi Pagano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5" descr="00361040"/>
          <p:cNvPicPr/>
          <p:nvPr/>
        </p:nvPicPr>
        <p:blipFill>
          <a:blip r:embed="rId1"/>
          <a:stretch/>
        </p:blipFill>
        <p:spPr>
          <a:xfrm>
            <a:off x="2666880" y="4800600"/>
            <a:ext cx="141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198380"/>
          <p:cNvPicPr/>
          <p:nvPr/>
        </p:nvPicPr>
        <p:blipFill>
          <a:blip r:embed="rId2"/>
          <a:stretch/>
        </p:blipFill>
        <p:spPr>
          <a:xfrm>
            <a:off x="4952880" y="4800600"/>
            <a:ext cx="1224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Comic Sans MS"/>
              </a:rPr>
              <a:t>P ositive Interdependenc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Comic Sans MS"/>
              </a:rPr>
              <a:t>I ndividual Accountability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 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S imultaneous Interac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0880" y="533520"/>
            <a:ext cx="853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ff"/>
                </a:solidFill>
                <a:latin typeface="Comic Sans MS"/>
              </a:rPr>
              <a:t>Kagan’s Cooperative Learning</a:t>
            </a: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4" descr="MC900240217[1]"/>
          <p:cNvPicPr/>
          <p:nvPr/>
        </p:nvPicPr>
        <p:blipFill>
          <a:blip r:embed="rId1"/>
          <a:stretch/>
        </p:blipFill>
        <p:spPr>
          <a:xfrm>
            <a:off x="4038480" y="5105520"/>
            <a:ext cx="14479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90720" y="15235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help necessary to complete work?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" y="1219320"/>
            <a:ext cx="80773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Positive </a:t>
            </a:r>
            <a:br>
              <a:rPr sz="5400"/>
            </a:b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Interdependence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7" descr="27-team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individual public performance required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12193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Individual Accountability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ghost-clipart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05320"/>
            <a:ext cx="227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5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5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5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w equal is the participation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5" name="Picture 10" descr="PieChart_Cooperation"/>
          <p:cNvPicPr/>
          <p:nvPr/>
        </p:nvPicPr>
        <p:blipFill>
          <a:blip r:embed="rId1"/>
          <a:stretch/>
        </p:blipFill>
        <p:spPr>
          <a:xfrm>
            <a:off x="2438280" y="2362320"/>
            <a:ext cx="4267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percent of students are overtly active at onc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28600" y="121932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Comic Sans MS"/>
              </a:rPr>
              <a:t>Simultaneous Interaction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5" descr="om_st_nht"/>
          <p:cNvPicPr/>
          <p:nvPr/>
        </p:nvPicPr>
        <p:blipFill>
          <a:blip r:embed="rId1"/>
          <a:stretch/>
        </p:blipFill>
        <p:spPr>
          <a:xfrm>
            <a:off x="1371600" y="3352680"/>
            <a:ext cx="586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ffff"/>
                </a:solidFill>
                <a:latin typeface="Comic Sans MS"/>
              </a:rPr>
              <a:t>Jot Thoughts</a:t>
            </a:r>
            <a:endParaRPr b="0" lang="en-US" sz="59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1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1752480"/>
            <a:ext cx="746784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Each student receives 6 small slips of pap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Each student WRITES a thought down and says it OUT LOU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No one can repeat what someone else has said/writte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Slips of paper are placed in the center of the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Comic Sans MS"/>
              </a:rPr>
              <a:t>DISCUSS:</a:t>
            </a:r>
            <a:r>
              <a:rPr b="1" lang="en-US" sz="4000" spc="-1" strike="noStrike">
                <a:solidFill>
                  <a:srgbClr val="f8f8f8"/>
                </a:solidFill>
                <a:latin typeface="Comic Sans MS"/>
              </a:rPr>
              <a:t>  What do you have in your refrigerator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477120" y="380880"/>
          <a:ext cx="20574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80880"/>
                    <a:ext cx="20574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ffff"/>
                </a:solidFill>
                <a:latin typeface="Comic Sans MS"/>
              </a:rPr>
              <a:t>Showdown </a:t>
            </a:r>
            <a:br>
              <a:rPr sz="66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9)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” reads a question to the other three teammates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Three teammates plus Showdown Captain write down their answer and flip over their board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 says “Showdown” and all students reveal their answers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 “coaches” other students to reach the correct answer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5" name="Picture 5" descr="MC900091313[1]"/>
          <p:cNvPicPr/>
          <p:nvPr/>
        </p:nvPicPr>
        <p:blipFill>
          <a:blip r:embed="rId1"/>
          <a:stretch/>
        </p:blipFill>
        <p:spPr>
          <a:xfrm>
            <a:off x="6019920" y="5257800"/>
            <a:ext cx="1295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Great job!</a:t>
            </a: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”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 Phrases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2120" y="274320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Honk honk!  Good job good buddy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You’re </a:t>
            </a:r>
            <a:r>
              <a:rPr b="1" i="1" lang="en-US" sz="3400" spc="-1" strike="noStrike">
                <a:solidFill>
                  <a:srgbClr val="f8f8f8"/>
                </a:solidFill>
                <a:latin typeface="Comic Sans MS"/>
              </a:rPr>
              <a:t>grate grate grate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Sparkle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¡Buen trabajo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1216080" cy="139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322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allyCoach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2120" y="2057400"/>
            <a:ext cx="746748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udents work with a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udents share ONE PAPER and ONE PENCI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lly = Two students go back and forth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ach = Student “coaches” his/her partner if s/he is struggling and “praises” when correc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5" descr="MC900437569[1]"/>
          <p:cNvPicPr/>
          <p:nvPr/>
        </p:nvPicPr>
        <p:blipFill>
          <a:blip r:embed="rId1"/>
          <a:stretch/>
        </p:blipFill>
        <p:spPr>
          <a:xfrm>
            <a:off x="6629400" y="1371600"/>
            <a:ext cx="1752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6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6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6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6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762120" y="2057400"/>
            <a:ext cx="784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What have you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learn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oday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447920" y="457200"/>
            <a:ext cx="6400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oundRobin 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5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11" descr="MC900282178[1]"/>
          <p:cNvPicPr/>
          <p:nvPr/>
        </p:nvPicPr>
        <p:blipFill>
          <a:blip r:embed="rId1"/>
          <a:stretch/>
        </p:blipFill>
        <p:spPr>
          <a:xfrm>
            <a:off x="3767040" y="4572000"/>
            <a:ext cx="1546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iscuss the reasoning behind using Cooperative Learn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Understand at least 3 different Cooperative Learning structur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rainstorm ideas on how you can use various Cooperative Learning structures in your clas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762120" y="5335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19080">
                  <a:solidFill>
                    <a:srgbClr val="f8f8f8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9881b1"/>
                    </a:gs>
                  </a:gsLst>
                  <a:lin ang="5400000"/>
                </a:gradFill>
                <a:latin typeface="Arial Black"/>
              </a:rPr>
              <a:t>Session Objectives</a:t>
            </a:r>
            <a:endParaRPr b="1" lang="en-US" sz="4900" spc="1" strike="noStrike">
              <a:ln w="19080">
                <a:solidFill>
                  <a:srgbClr val="f8f8f8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9881b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3" name="Picture 5" descr="MC900299691[1]"/>
          <p:cNvPicPr/>
          <p:nvPr/>
        </p:nvPicPr>
        <p:blipFill>
          <a:blip r:embed="rId1"/>
          <a:stretch/>
        </p:blipFill>
        <p:spPr>
          <a:xfrm>
            <a:off x="6400800" y="4648320"/>
            <a:ext cx="2286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rcRect l="23134" t="34557" r="47850" b="23038"/>
          <a:stretch/>
        </p:blipFill>
        <p:spPr>
          <a:xfrm>
            <a:off x="990720" y="380880"/>
            <a:ext cx="7126200" cy="6096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Thank you for 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joining us!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9" name="Picture 3" descr="j0078766"/>
          <p:cNvPicPr/>
          <p:nvPr/>
        </p:nvPicPr>
        <p:blipFill>
          <a:blip r:embed="rId1"/>
          <a:stretch/>
        </p:blipFill>
        <p:spPr>
          <a:xfrm>
            <a:off x="3200400" y="3581280"/>
            <a:ext cx="2819520" cy="277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7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123" descr="MC900060316[1]"/>
          <p:cNvPicPr/>
          <p:nvPr/>
        </p:nvPicPr>
        <p:blipFill>
          <a:blip r:embed="rId1"/>
          <a:stretch/>
        </p:blipFill>
        <p:spPr>
          <a:xfrm>
            <a:off x="2286000" y="457200"/>
            <a:ext cx="4950000" cy="579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2122"/>
          <p:cNvSpPr txBox="1"/>
          <p:nvPr/>
        </p:nvSpPr>
        <p:spPr>
          <a:xfrm>
            <a:off x="990720" y="1066680"/>
            <a:ext cx="6933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Quiet Signal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781680" y="22860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1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77760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9" name="WordArt 2122"/>
          <p:cNvSpPr txBox="1"/>
          <p:nvPr/>
        </p:nvSpPr>
        <p:spPr>
          <a:xfrm>
            <a:off x="457200" y="762120"/>
            <a:ext cx="8288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Based on previous experiences,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how would you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describe 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Cooperative Learning?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6324480" y="15228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6" descr="MC900431560[1]"/>
          <p:cNvPicPr/>
          <p:nvPr/>
        </p:nvPicPr>
        <p:blipFill>
          <a:blip r:embed="rId1"/>
          <a:stretch/>
        </p:blipFill>
        <p:spPr>
          <a:xfrm>
            <a:off x="3657600" y="3962520"/>
            <a:ext cx="243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Forming Groups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0120" y="35812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Face 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619760" y="3047760"/>
            <a:ext cx="10666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96080" y="4267080"/>
            <a:ext cx="99072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05320" y="5715000"/>
            <a:ext cx="23619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Shoulder 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95288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28800" y="2286000"/>
          <a:ext cx="5715000" cy="2895480"/>
        </p:xfrm>
        <a:graphic>
          <a:graphicData uri="http://schemas.openxmlformats.org/drawingml/2006/table">
            <a:tbl>
              <a:tblPr/>
              <a:tblGrid>
                <a:gridCol w="2849400"/>
                <a:gridCol w="28656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SC03530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A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tudents raise ha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calls on one stud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ne student ans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respo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Picture 4" descr="MC900335624[1]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B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question 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gives proj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say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as a team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elp each o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on it toge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8" name="Picture 9" descr="groupwork"/>
          <p:cNvPicPr/>
          <p:nvPr/>
        </p:nvPicPr>
        <p:blipFill>
          <a:blip r:embed="rId1"/>
          <a:stretch/>
        </p:blipFill>
        <p:spPr>
          <a:xfrm>
            <a:off x="3429000" y="1447920"/>
            <a:ext cx="51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C 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Student-to-student structured interac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41280" y="-4269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5" descr="working-together-lumix-art"/>
          <p:cNvPicPr/>
          <p:nvPr/>
        </p:nvPicPr>
        <p:blipFill>
          <a:blip r:embed="rId1"/>
          <a:stretch/>
        </p:blipFill>
        <p:spPr>
          <a:xfrm>
            <a:off x="5334120" y="2819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6:17:45Z</dcterms:created>
  <dc:creator>twesterberg</dc:creator>
  <dc:description/>
  <dc:language>en-US</dc:language>
  <cp:lastModifiedBy>Allison</cp:lastModifiedBy>
  <dcterms:modified xsi:type="dcterms:W3CDTF">2016-03-05T04:45:18Z</dcterms:modified>
  <cp:revision>440</cp:revision>
  <dc:subject/>
  <dc:title>Three Mistakes Made in Implementing Instructional Models</dc:title>
</cp:coreProperties>
</file>